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B87F-A254-4A16-86AD-608D2C11C7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7857-130C-44CC-BA42-29F24AB3EF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7A7A-F25E-477E-BB90-E374FCB8FF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99A9-39CA-4DFB-8896-1343D6E9EE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ов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DBF1-9D65-4677-AA30-1B561230E2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1EEE-B30D-42ED-8960-1A3694D7E3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877D-1FC1-4F5A-8D38-B27501DE48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Спасибо всем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82DD-3A6E-4AC6-80B8-E1F6B2AB13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3537-2A36-4BB5-8F61-1A49FBEC15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9274-F70D-4D7C-B293-D61B43E579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339E-8523-4038-99B7-E91CF5E56C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6889-7ED8-40ED-81F5-CD1EE3CA24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2959-D133-48FC-BFBC-95D77920DE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условия, при которых возникают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i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»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47B3-82F1-45E8-B4F2-D1FB466A26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» 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7E43-57AA-493F-8051-88C9E51B95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D70-4845-4408-8D04-44E1A58B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B7E-AECE-4DAC-BB15-1B1E0A9B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6B8-41E0-44B5-A3C9-E1E03D7B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517-F55A-4CD6-B6D8-AC3B68AC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6E19-93E2-4DB9-AEE1-024445C2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D595-0190-40D8-8396-2BD2ED06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89C0-9695-43B5-A219-A63FF13B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A46A-B483-4923-923D-0D30949E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FA1B-802F-458A-828A-FC363C37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CC4C-7B81-4B9C-9672-B0579D30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6DDF-74CA-4C53-A1E5-BA9E0FEC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CE8-B42E-4F9E-88F8-F6AC4A11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9C2C-2BDC-4890-B433-AEF6CF54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FF4A-19B9-4998-BE58-24194BA9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4354-BE68-4E40-8648-5EB76CAE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6535-2B7A-4B8B-824A-F92E166E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9AE5-73CB-44A3-A2B1-8929F358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307-C412-4768-8122-20F96A02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43A-7441-4BB8-98B7-16CF2807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EEC-1274-4B7B-B67A-9C343DB2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E3E-47A3-49B6-92D5-11B4ADDD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243-3776-4049-AA3E-C37E13A2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2EA-E382-49DF-A055-776D1946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79D-483E-4D42-93B5-05EE3899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F282-2FE0-4153-B724-6C171D74C24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CBB3-512F-4479-BF35-18CF99869ED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../&#1059;&#1095;&#1080;&#1090;&#1077;&#1083;&#1103;/&#1050;&#1083;&#1080;&#1085;&#1086;&#1074;&#1072;/you_people/&#1054;&#1090;&#1082;&#1088;_&#1091;&#1088;&#1086;&#1082;/&#1055;&#1088;&#1080;&#1082;&#1072;&#1079;%20.doc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3640" cy="817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1619280" y="620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059280" y="289080"/>
            <a:ext cx="3168360" cy="836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708360" y="3286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трас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395280" y="285444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3348000" y="2781360"/>
            <a:ext cx="2448000" cy="100800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443640" y="2708280"/>
            <a:ext cx="2448000" cy="936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665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12589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21240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37083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442764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5148360" y="6165720"/>
            <a:ext cx="433440" cy="50328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6732720" y="6164280"/>
            <a:ext cx="43308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82422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75247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4643280" y="220500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6372360" y="1917720"/>
            <a:ext cx="1224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7"/>
          <p:cNvSpPr/>
          <p:nvPr/>
        </p:nvSpPr>
        <p:spPr>
          <a:xfrm flipH="1">
            <a:off x="1547640" y="2058840"/>
            <a:ext cx="93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1"/>
          <p:cNvSpPr/>
          <p:nvPr/>
        </p:nvSpPr>
        <p:spPr>
          <a:xfrm flipH="1">
            <a:off x="610920" y="5445000"/>
            <a:ext cx="215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2"/>
          <p:cNvSpPr/>
          <p:nvPr/>
        </p:nvSpPr>
        <p:spPr>
          <a:xfrm flipH="1">
            <a:off x="694800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43"/>
          <p:cNvSpPr/>
          <p:nvPr/>
        </p:nvSpPr>
        <p:spPr>
          <a:xfrm flipH="1">
            <a:off x="385092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44"/>
          <p:cNvSpPr/>
          <p:nvPr/>
        </p:nvSpPr>
        <p:spPr>
          <a:xfrm>
            <a:off x="147636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774072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4643280" y="501336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3"/>
          <p:cNvSpPr/>
          <p:nvPr/>
        </p:nvSpPr>
        <p:spPr>
          <a:xfrm>
            <a:off x="2195640" y="537372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4"/>
          <p:cNvSpPr/>
          <p:nvPr/>
        </p:nvSpPr>
        <p:spPr>
          <a:xfrm>
            <a:off x="838836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521964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7"/>
          <p:cNvSpPr/>
          <p:nvPr/>
        </p:nvSpPr>
        <p:spPr>
          <a:xfrm>
            <a:off x="395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9"/>
          <p:cNvSpPr/>
          <p:nvPr/>
        </p:nvSpPr>
        <p:spPr>
          <a:xfrm>
            <a:off x="0" y="4083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пределенный вид об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3"/>
          <p:cNvSpPr/>
          <p:nvPr/>
        </p:nvSpPr>
        <p:spPr>
          <a:xfrm>
            <a:off x="250920" y="3357720"/>
            <a:ext cx="183672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орон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1835280" y="44280"/>
            <a:ext cx="5184720" cy="1125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5280" y="-1800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рудовое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216000" y="1846440"/>
            <a:ext cx="248436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уд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го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6518160" y="1701720"/>
            <a:ext cx="2374920" cy="935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плата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421080" y="177336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ремя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отды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732720" y="2781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H="1">
            <a:off x="250920" y="981000"/>
            <a:ext cx="194472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1834920" y="1052640"/>
            <a:ext cx="936360" cy="792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5651640" y="1268280"/>
            <a:ext cx="28872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2842920" y="1268280"/>
            <a:ext cx="64908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3203280" y="1266840"/>
            <a:ext cx="431640" cy="938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5724360" y="1197000"/>
            <a:ext cx="576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7093080" y="836640"/>
            <a:ext cx="15825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>
            <a:off x="6588000" y="907920"/>
            <a:ext cx="1079640" cy="792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0"/>
          <p:cNvSpPr/>
          <p:nvPr/>
        </p:nvSpPr>
        <p:spPr>
          <a:xfrm>
            <a:off x="4572000" y="1197000"/>
            <a:ext cx="0" cy="576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252360" y="4508640"/>
            <a:ext cx="165564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5"/>
          <p:cNvSpPr/>
          <p:nvPr/>
        </p:nvSpPr>
        <p:spPr>
          <a:xfrm>
            <a:off x="324000" y="5734080"/>
            <a:ext cx="1655640" cy="57456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 Т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3203640" y="2997360"/>
            <a:ext cx="244800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долж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3203640" y="3787920"/>
            <a:ext cx="2376360" cy="6490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епол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бочи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3203640" y="4581360"/>
            <a:ext cx="2448000" cy="7192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ерывы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дыха и 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3203640" y="544500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щий выходно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3203640" y="602136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6300720" y="5589720"/>
            <a:ext cx="259236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имальный разм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ы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6373800" y="451008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а работы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373800" y="328464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и выпл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работной 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788000" y="765000"/>
            <a:ext cx="3816360" cy="547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79280" y="1989000"/>
            <a:ext cx="4176720" cy="3240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714560" y="90792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5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250920" y="1989000"/>
            <a:ext cx="4321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6"/>
          <p:cNvSpPr txBox="1"/>
          <p:nvPr/>
        </p:nvSpPr>
        <p:spPr>
          <a:xfrm rot="19952400">
            <a:off x="0" y="2205000"/>
            <a:ext cx="87249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!!!</a:t>
            </a:r>
            <a:endParaRPr b="0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178279"/>
          <p:cNvPicPr/>
          <p:nvPr/>
        </p:nvPicPr>
        <p:blipFill>
          <a:blip r:embed="rId1"/>
          <a:stretch/>
        </p:blipFill>
        <p:spPr>
          <a:xfrm>
            <a:off x="-36360" y="-270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95640" y="692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1579680"/>
            <a:ext cx="914400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04_1"/>
          <p:cNvPicPr/>
          <p:nvPr/>
        </p:nvPicPr>
        <p:blipFill>
          <a:blip r:embed="rId2"/>
          <a:stretch/>
        </p:blipFill>
        <p:spPr>
          <a:xfrm>
            <a:off x="1979640" y="119160"/>
            <a:ext cx="5086440" cy="38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Bus_big"/>
          <p:cNvPicPr/>
          <p:nvPr/>
        </p:nvPicPr>
        <p:blipFill>
          <a:blip r:embed="rId3"/>
          <a:stretch/>
        </p:blipFill>
        <p:spPr>
          <a:xfrm>
            <a:off x="142920" y="2781360"/>
            <a:ext cx="5292720" cy="25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Mercedes_o345_Conecto_C_abb"/>
          <p:cNvPicPr/>
          <p:nvPr/>
        </p:nvPicPr>
        <p:blipFill>
          <a:blip r:embed="rId4"/>
          <a:stretch/>
        </p:blipFill>
        <p:spPr>
          <a:xfrm>
            <a:off x="4356000" y="37162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539640" y="5950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43880" cy="14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К РФ п.1 Ст. 2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.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321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ГК РФ п. 2 Ст. 20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К РФ п. 1 Ст. 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00508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4500720" y="4365720"/>
            <a:ext cx="43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468360" y="5445000"/>
            <a:ext cx="7775640" cy="1079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условия,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которых возникают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79280" y="3284640"/>
            <a:ext cx="92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50920" y="3213000"/>
            <a:ext cx="86421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»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ГК РФ п. 2,4 Ст. 33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98764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132000" y="35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516720" y="42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С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50920" y="522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68360" y="5373720"/>
            <a:ext cx="831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бщая модел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Если…, то…, а в противном случае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258920" y="1125360"/>
            <a:ext cx="6351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» (ГК РФ п. 2,4 Ст. 33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55:13Z</dcterms:created>
  <dc:creator>User</dc:creator>
  <dc:description/>
  <dc:language>en-US</dc:language>
  <cp:lastModifiedBy>LEGION</cp:lastModifiedBy>
  <dcterms:modified xsi:type="dcterms:W3CDTF">2015-01-28T08:25:49Z</dcterms:modified>
  <cp:revision>37</cp:revision>
  <dc:subject/>
  <dc:title>Норма права</dc:title>
</cp:coreProperties>
</file>